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82A-8773-4531-9825-4DDACF81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C82-557F-46C4-9DFD-D3F94CD0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7DB-7B02-4213-AD0F-F40D3482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066-1D4C-4002-A235-33370FB7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B055-3887-4AD9-97B7-44B8C081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B90-36D6-47A7-888C-8CDE192D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814-B8CA-4372-A0B5-DE87F77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D938-E2F4-4833-8372-21C2E653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702-1F15-4A86-90E1-74EA22F0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2DAF-EA47-45E8-A651-EB64DA34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929C-3F09-47E5-99EA-AAEC6D34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093-7850-4839-AF91-AA3B184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DFBE-C64E-49CB-95DA-2CDA929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B3D-CF19-4B70-92C5-04474BAB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D2D-D790-4EC5-9787-6C75D57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8F51-E3CE-41F3-B68C-21FF20B6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4AE-DBEF-4B16-B4AF-95205F3C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04EC-A105-4FD7-B98E-36FDAE3E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3B5C-53C2-442C-A052-6354C6B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67A8-B0F9-45A4-A062-54D5A5A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6C6A-AB22-4B73-98B5-99395B41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29AA-F68C-4D0A-9628-B70AAAD5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E5E-0C3A-45F1-A18F-8A4A646F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07D8-D43A-422F-B05B-2F658AC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E06A-3F6B-4453-AE51-56BEF9AC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5800-FFFA-4E35-A7F0-C728377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8F65-80E9-4F6B-BD66-80E562A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63D7-D2E0-476F-A77A-5D86634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B341-13DC-481B-B9F8-ECB730C7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F534-714E-492D-837A-9B4E96B2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DC1C-8C81-43E7-A59E-39F88AEE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DF76-3DC4-469A-BC9B-A818F419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FC7B-8569-4111-8E0C-27F95ED0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82A-DA74-485D-8111-E6637C4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26A1B-647B-4FE0-AFDB-6A645F2D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6B32-66F1-4B98-9630-F571AE54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8036-7E75-4165-8B51-45D8ED6C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AA5A-92CD-4CB4-9C94-BA2AFEA6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147F-306D-4D6D-B96D-667E008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F8B7-15A1-48E3-98C5-1531CC2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DB3F-B40E-45B7-8539-3CA5A0F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AA2B-47D3-4950-97A1-6D0646DA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CEB2-970B-4969-9EBF-E6294C06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5E44-0139-48E3-8C12-17850A47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743-677F-4F29-9A31-441D1DA0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9976-2310-4190-9BEE-FCE471F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5539-EB4F-4305-8841-F2B0994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45CE-272C-47CA-9116-02977B2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BC0B-C4D7-4820-8ADD-DE21B4D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929E-FAA5-4C48-BB0F-3BFFCD2A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0510-6E3A-4648-A894-1A0D373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72B0-69C7-4C56-B8EB-E256498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7107-6BCF-4067-BA7B-DAFAF36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E787-1C4C-4891-8EA6-8A861143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E00E-1EC3-4F44-9EC4-1D50F4C4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752-2B68-4BF9-88D7-7C6B4C0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EC72-D326-427E-8893-7CBFEC40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49B7-6E07-4BAC-82E3-3DC7BA0E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ED2C-C882-4696-AC41-B72CE832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467C-0D02-4ABE-ABAC-C3F531E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9577-B927-4F89-AF10-BD23215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AA8F2-4529-4643-901C-33DC78E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32D2-CB73-49B6-989C-7C036E4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F043-43AF-4E7D-840B-4FA439C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8656-5F65-4848-9D89-89941F2A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2832D-570C-4CEC-B396-44879D7D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350-9447-4B1C-BE15-C6F375A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4ED4-17DB-4491-8949-8C906BEB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8862-6CF6-4FC3-A4CC-4E4A0D4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D472-05A6-45F3-9215-2C84BB5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6C7A-21FF-41A9-896A-C96E5DE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D12C8-E2AA-43A6-A893-866BB1A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6FA66-2F30-4678-8261-68081B5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25C95-C771-4E41-8142-82F8DBC5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9A0BE-8864-4886-915C-CB99949F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3E34-191D-4E5C-A842-767364F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07CC3-7D5B-4F7E-94A0-DA1DD46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4FE-A323-44D0-879A-7D62567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05B4-6322-44AF-B7A2-1573BBC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CBE4-394C-4C13-AD31-A2AE9F6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826A-B89F-4921-A3F3-33B23C9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CDC1-1D8C-48E8-9C40-EE1CBF9A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EF10-5719-45CD-A85B-666D364B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883D-33CE-45FA-AC52-BFA9F23D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9B41-FDFA-42F1-9FDF-BCF0B71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34D07-F892-4C09-B0F1-F3BB658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CC58-C315-4CA4-BC56-C885756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3CC6-AAFB-410D-A183-5BF982A0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77F-8E19-4506-B291-19EA210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8096-61BD-467B-B46B-1C2A641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5A26-B065-4302-8EDF-0FC9413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7264-54C6-4A49-8335-CE653D0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F594-0A90-4754-BEF2-B30A3C0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56A2-99AD-4A2E-AF9F-E534AAD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FCF8-8845-4D2D-B170-2048285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483D4-70C3-4419-8EC4-44C9A350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A9F-3AC3-4FFD-86DE-E442896D123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4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C63C-39C3-40D1-8911-DE04358352D9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271-6DB2-45E0-B108-B1CB491ABEA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5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1EE-7D62-43B5-8FB4-224CCF7CE32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854-C77D-4D57-9795-BBDE8EF42ED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379-54C2-497D-A486-2BF709ACBDA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0C7-4C2B-4FF5-A7C3-51010D71304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8CDA-FDBE-4EC2-A8F5-60C17C570A5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OB AND SHELL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y: Hemal Parik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HIELA SU AMIGA LE DIJO A SU “BOB ESTUVO EN EL HOSPITAL.”  SHIELA CORRIÓ A BOB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1" name="Picture 2" descr="http://tell.fll.purdue.edu/JapanProj/FLClipart/Nouns/building/hospital.gif"/>
          <p:cNvPicPr/>
          <p:nvPr/>
        </p:nvPicPr>
        <p:blipFill>
          <a:blip r:embed="rId1"/>
          <a:stretch/>
        </p:blipFill>
        <p:spPr>
          <a:xfrm>
            <a:off x="380880" y="3505320"/>
            <a:ext cx="4152960" cy="2189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http://pathforhealthyliving.wigihosting.com/blog/wp-content/uploads/2010/06/GirlRunning.jpg"/>
          <p:cNvPicPr/>
          <p:nvPr/>
        </p:nvPicPr>
        <p:blipFill>
          <a:blip r:embed="rId2"/>
          <a:stretch/>
        </p:blipFill>
        <p:spPr>
          <a:xfrm>
            <a:off x="5029200" y="3478320"/>
            <a:ext cx="3714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LLA LE DIJO QUE “TE AMO MUCHA!” BOB ESTUVO MUY CONTENTO! ELLOS VIVIERON UNA LA VIDA DE CONTENT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4" name="Picture 2" descr="http://www.engagements.ca/images/girlproposes.jpg"/>
          <p:cNvPicPr/>
          <p:nvPr/>
        </p:nvPicPr>
        <p:blipFill>
          <a:blip r:embed="rId1"/>
          <a:stretch/>
        </p:blipFill>
        <p:spPr>
          <a:xfrm>
            <a:off x="609480" y="3505320"/>
            <a:ext cx="3333960" cy="2904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t1.gstatic.com/images?q=tbn:ANd9GcTWjpO_yreDDYrcDmYCSnFmjyWh9u9tj0b14m8vmsB1iK0tyoGbvw"/>
          <p:cNvPicPr/>
          <p:nvPr/>
        </p:nvPicPr>
        <p:blipFill>
          <a:blip r:embed="rId2"/>
          <a:stretch/>
        </p:blipFill>
        <p:spPr>
          <a:xfrm>
            <a:off x="4267080" y="3506760"/>
            <a:ext cx="365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AY FUE UN CHICO CON NOMBRE BOB. EL TUVO GRANDE CORAZÓN PERO NO TUVO EL CEREBR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7" name="Picture 2" descr="http://www.studentsoftheworld.info/sites/games/img/24715_3-hearts.png"/>
          <p:cNvPicPr/>
          <p:nvPr/>
        </p:nvPicPr>
        <p:blipFill>
          <a:blip r:embed="rId1"/>
          <a:stretch/>
        </p:blipFill>
        <p:spPr>
          <a:xfrm>
            <a:off x="380880" y="3352680"/>
            <a:ext cx="3648240" cy="3229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www.examiner.com/images/blog/wysiwyg/image/brain(26).jpg"/>
          <p:cNvPicPr/>
          <p:nvPr/>
        </p:nvPicPr>
        <p:blipFill>
          <a:blip r:embed="rId2"/>
          <a:stretch/>
        </p:blipFill>
        <p:spPr>
          <a:xfrm>
            <a:off x="4267080" y="3352680"/>
            <a:ext cx="4419720" cy="3229200"/>
          </a:xfrm>
          <a:prstGeom prst="rect">
            <a:avLst/>
          </a:prstGeom>
          <a:ln w="0">
            <a:noFill/>
          </a:ln>
        </p:spPr>
      </p:pic>
      <p:sp>
        <p:nvSpPr>
          <p:cNvPr id="349" name="Straight Connector 5"/>
          <p:cNvSpPr/>
          <p:nvPr/>
        </p:nvSpPr>
        <p:spPr>
          <a:xfrm>
            <a:off x="4267080" y="6581880"/>
            <a:ext cx="914400" cy="914400"/>
          </a:xfrm>
          <a:prstGeom prst="line">
            <a:avLst/>
          </a:prstGeom>
          <a:ln w="9360">
            <a:solidFill>
              <a:srgbClr val="9e8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Straight Connector 7"/>
          <p:cNvSpPr/>
          <p:nvPr/>
        </p:nvSpPr>
        <p:spPr>
          <a:xfrm flipV="1">
            <a:off x="4343400" y="3352320"/>
            <a:ext cx="434340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Straight Connector 9"/>
          <p:cNvSpPr/>
          <p:nvPr/>
        </p:nvSpPr>
        <p:spPr>
          <a:xfrm>
            <a:off x="4343400" y="3352680"/>
            <a:ext cx="4343400" cy="32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AY FUE UNA CHICA. ELLA SU NOMBRE FUE SHELLA. ELLOS ESTUVIERON AMIGOS CUANDO LOS NIÑOS PEQUEÑ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3" name="Picture 4" descr="http://rookery.s3.amazonaws.com/742500/742961_a228_625x1000.jpg"/>
          <p:cNvPicPr/>
          <p:nvPr/>
        </p:nvPicPr>
        <p:blipFill>
          <a:blip r:embed="rId1"/>
          <a:stretch/>
        </p:blipFill>
        <p:spPr>
          <a:xfrm>
            <a:off x="914400" y="3324240"/>
            <a:ext cx="2705040" cy="3019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farm1.static.flickr.com/98/252075523_1c097d4b88.jpg"/>
          <p:cNvPicPr/>
          <p:nvPr/>
        </p:nvPicPr>
        <p:blipFill>
          <a:blip r:embed="rId2"/>
          <a:stretch/>
        </p:blipFill>
        <p:spPr>
          <a:xfrm>
            <a:off x="4800600" y="3386160"/>
            <a:ext cx="29336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RO BOB NO SE GUSTA SHIELA PORQUE ELLA FUE NO BONITA. ÉL  LE DIJO QUE TIENE UN DOLOR DE CABEZA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6" name="Picture 2" descr="http://tnation.t-nation.com/forum_images/d/8/d841c-Ugly_girl.gif"/>
          <p:cNvPicPr/>
          <p:nvPr/>
        </p:nvPicPr>
        <p:blipFill>
          <a:blip r:embed="rId1"/>
          <a:stretch/>
        </p:blipFill>
        <p:spPr>
          <a:xfrm>
            <a:off x="838080" y="3276720"/>
            <a:ext cx="2743200" cy="326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2.bp.blogspot.com/_8vF1TTyV5ww/Sz6RMrrXzHI/AAAAAAAAB6w/QjcjQIKZMwI/s1600/office_headache.gif"/>
          <p:cNvPicPr/>
          <p:nvPr/>
        </p:nvPicPr>
        <p:blipFill>
          <a:blip r:embed="rId2"/>
          <a:stretch/>
        </p:blipFill>
        <p:spPr>
          <a:xfrm>
            <a:off x="4800600" y="3336840"/>
            <a:ext cx="3124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UANDO ELLOS TUVIERON MAYORS, SHEILA NO SE GUSTA BOB. PERO, BOB EMPEZÓ GUSTAR SHIELA MUCH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Picture 4" descr="http://www.tomrichmond.com/images/teenmagfinal_big.jpg"/>
          <p:cNvPicPr/>
          <p:nvPr/>
        </p:nvPicPr>
        <p:blipFill>
          <a:blip r:embed="rId1"/>
          <a:stretch/>
        </p:blipFill>
        <p:spPr>
          <a:xfrm>
            <a:off x="762120" y="3352680"/>
            <a:ext cx="352728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http://www.visualphotos.com/photo/2x4285886/boy_looking_at_girl_texting_is0266kh6.jpg"/>
          <p:cNvPicPr/>
          <p:nvPr/>
        </p:nvPicPr>
        <p:blipFill>
          <a:blip r:embed="rId2"/>
          <a:stretch/>
        </p:blipFill>
        <p:spPr>
          <a:xfrm>
            <a:off x="4782960" y="3368520"/>
            <a:ext cx="3922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LLA NUNCA HABLÓ CON ÉL . CUANDO, ÉL QUERÍA SER SU AMIGA PERO ÉL FRACASAD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2" name="Picture 2" descr="http://kevinspear.com/wp-content/uploads/2010/05/Spear_3628.jpg"/>
          <p:cNvPicPr/>
          <p:nvPr/>
        </p:nvPicPr>
        <p:blipFill>
          <a:blip r:embed="rId1"/>
          <a:stretch/>
        </p:blipFill>
        <p:spPr>
          <a:xfrm>
            <a:off x="2743200" y="342756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4674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BOB SE SENTÍO MUY MAL.  ÉL LE DIJO QUE “TE AMO SHIELA.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http://www.talkwedding.org/pictures/proposal1.jpg"/>
          <p:cNvPicPr/>
          <p:nvPr/>
        </p:nvPicPr>
        <p:blipFill>
          <a:blip r:embed="rId1"/>
          <a:stretch/>
        </p:blipFill>
        <p:spPr>
          <a:xfrm>
            <a:off x="838080" y="3581280"/>
            <a:ext cx="3048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LLA LE DIJO QUE “NO TE AMO.”  QUE LE ROMPIÓ ÉL CORAZÓN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Picture 2" descr="http://forladiesbyladies.com/wp-content/uploads/2009/07/broken-heart.jpg"/>
          <p:cNvPicPr/>
          <p:nvPr/>
        </p:nvPicPr>
        <p:blipFill>
          <a:blip r:embed="rId1"/>
          <a:stretch/>
        </p:blipFill>
        <p:spPr>
          <a:xfrm>
            <a:off x="2743200" y="350532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QUE LE ROMPIÓ ÉL CORAZÓN.  DESPUES DE UN DIA, ÉL  SE FUE POR ÉL CORRER Y ÉL HINCHADO EL TOBILLO Y LA HERIDO LA CABEZA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8" name="Picture 2" descr="http://www.clipartguide.com/_named_clipart_images/0060-0807-1214-4036_Sprinter_running_a_race_clipart_image.jpg"/>
          <p:cNvPicPr/>
          <p:nvPr/>
        </p:nvPicPr>
        <p:blipFill>
          <a:blip r:embed="rId1"/>
          <a:stretch/>
        </p:blipFill>
        <p:spPr>
          <a:xfrm>
            <a:off x="685800" y="3429000"/>
            <a:ext cx="2631960" cy="274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aullmd.com/wp-content/uploads/2010/09/sprained-ankle.jpg"/>
          <p:cNvPicPr/>
          <p:nvPr/>
        </p:nvPicPr>
        <p:blipFill>
          <a:blip r:embed="rId2"/>
          <a:stretch/>
        </p:blipFill>
        <p:spPr>
          <a:xfrm>
            <a:off x="3886200" y="3429000"/>
            <a:ext cx="280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3:58:45Z</dcterms:created>
  <dc:creator>hemal</dc:creator>
  <dc:description/>
  <dc:language>en-US</dc:language>
  <cp:lastModifiedBy>hemal</cp:lastModifiedBy>
  <dcterms:modified xsi:type="dcterms:W3CDTF">2011-03-08T00:33:40Z</dcterms:modified>
  <cp:revision>4</cp:revision>
  <dc:subject/>
  <dc:title>Bob And Shella</dc:title>
</cp:coreProperties>
</file>